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7D6-E801-4DCD-8088-658BA079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5AC-EF69-42BE-B567-4C24B05A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4EC-7AC8-4912-B043-FC95631E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CBC-F3F7-4065-8131-C7699137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FD8-C1FE-4C27-A400-ECFBD3BB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32E-0DD6-40B8-BCFF-40E85AC8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EA7-7EB7-4FB8-9559-A144B729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D51-DE3F-4636-9397-EFB2CC17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3D3-FFB1-49A8-B4E9-52A5BA1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2C1-1FED-4099-AEEC-A3D4A0A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7E5-1A4B-413D-BD6A-6190B95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279-A264-47EC-ADB7-A23BBA5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E3D-C53B-445F-A52A-6AD72A750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504960" cy="265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HE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A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ARKET IN ATHENS - as it appeared in classical antiquity: wood engraving, 19th century."/>
          <p:cNvPicPr/>
          <p:nvPr/>
        </p:nvPicPr>
        <p:blipFill>
          <a:blip r:embed="rId2"/>
          <a:stretch/>
        </p:blipFill>
        <p:spPr>
          <a:xfrm>
            <a:off x="228600" y="373392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PARTAN WARRIORS - exercising in the dromos (racecourse). Line engraving, 19th century."/>
          <p:cNvPicPr/>
          <p:nvPr/>
        </p:nvPicPr>
        <p:blipFill>
          <a:blip r:embed="rId3"/>
          <a:stretch/>
        </p:blipFill>
        <p:spPr>
          <a:xfrm>
            <a:off x="5029200" y="3733920"/>
            <a:ext cx="3809880" cy="281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52280" y="1295280"/>
            <a:ext cx="4724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ligarchy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06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rming an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litary - - - communities around them provided trade and c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althy receiv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ved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arned reading, writing, poetry, math, music, dance, and athl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 age 18 served 2 years in the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service were given a spear and shield and only called out at wa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rls learned from Mother’s crafts and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ys lived in bar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ught to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phasized physic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ict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ept on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ore light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18 in Army fu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30 full citizen and could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rls got a strong physic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808280" cy="107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08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ty-state had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dn’t fear slave re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vish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rge government projects to benefi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eared slave re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ple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luxury goods/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5105520"/>
            <a:ext cx="18306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38:01Z</dcterms:created>
  <dc:creator>gehadde</dc:creator>
  <dc:description/>
  <dc:language>en-US</dc:language>
  <cp:lastModifiedBy>gehadde</cp:lastModifiedBy>
  <dcterms:modified xsi:type="dcterms:W3CDTF">2012-05-03T17:14:20Z</dcterms:modified>
  <cp:revision>21</cp:revision>
  <dc:subject/>
  <dc:title>Warm-Up: #</dc:title>
</cp:coreProperties>
</file>